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D2BF-13AA-45B7-A660-4BE0DA685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Username:  ESC@esc.edu 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assword:    ESCgueston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http://www.accordent.com/resources/sample-presentation.aspx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F39-18A3-4363-9462-0A199F7E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67C-E70F-4E11-8ED6-6D6C091B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FBA-D9B6-444B-86C6-B100A91C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040-BA86-4DDB-8E2C-3DC997FB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CBE7-CFB7-431D-9E0C-50FDD30A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981F-1295-49B8-8659-EF30DF25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F9E8-B825-4848-B790-2DD98BEC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9D0B-B5CC-4611-8D84-00232EA5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0DD9-217E-43A6-A9F2-C410CB09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10D2-E08A-48D1-BBF0-BEA75479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F2C8-A154-4036-9088-726CB66A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807-3BC3-440B-B802-ED35CB63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933B-DA11-4F8E-9CBA-373A039C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50D7-E61D-4658-8284-866175EA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DFBE-0C5B-4A51-BD7F-DB60F0A6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5EA2-D1F2-4534-A47D-1E3C8C85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75F6-CDA4-4222-8DF5-65E900F8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B58-FF03-47B9-9966-D1FC9539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7D4-5BEF-49FF-9896-FA26D2EF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004-C60B-4236-9FEA-247AD690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2F3-3B44-4FE1-8F32-53235851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839F-19A6-4496-835C-CA3B4C2E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827-C088-4DB8-9E71-D1E880F9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67F-7EB8-4D58-BB0F-37A33DDB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0B10-A495-4527-9AD3-45A94A5AEF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6345-F9D8-4E49-98C5-15F96D5DE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diafiles.empire-edutools.net/accord3z/JohnHughesAccordentTour/main.htm" TargetMode="External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http://mediafiles.empire-edutools.net/accord3z/JohnHughesAccordentTour/main.htm" TargetMode="External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hyperlink" Target="http://mediafiles.empire-edutools.net/accord3z/JohnHughesAccordentTour/main.htm" TargetMode="External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3949560"/>
            <a:ext cx="72388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Georgia"/>
              </a:rPr>
              <a:t>Create professional looking lecture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Georgia"/>
              </a:rPr>
              <a:t>Immediately stream media files to your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58436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COR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ACULTY WORK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88168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Lisa Rapple, Curriculum Technical Specialist - Center for Distance Learning</a:t>
            </a:r>
            <a:br>
              <a:rPr sz="1200"/>
            </a:b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John Hughes, Assistant Director for Media Recording - Office of Instructional Technology</a:t>
            </a:r>
            <a:br>
              <a:rPr sz="1200"/>
            </a:br>
            <a:r>
              <a:rPr b="0" i="1" lang="en-US" sz="1200" spc="-1" strike="noStrike">
                <a:solidFill>
                  <a:srgbClr val="669999"/>
                </a:solidFill>
                <a:latin typeface="Arial"/>
              </a:rPr>
              <a:t>SUNY Empire State College, Saratoga Springs, 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/>
          </p:cNvPr>
          <p:cNvSpPr/>
          <p:nvPr/>
        </p:nvSpPr>
        <p:spPr>
          <a:xfrm>
            <a:off x="533520" y="160020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1- Over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38040" cy="952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05320" y="16765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S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Talking Head with Slides/ANGEL/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/>
          </p:cNvPr>
          <p:cNvSpPr/>
          <p:nvPr/>
        </p:nvSpPr>
        <p:spPr>
          <a:xfrm>
            <a:off x="2666880" y="1523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4"/>
          </p:cNvPr>
          <p:cNvSpPr/>
          <p:nvPr/>
        </p:nvSpPr>
        <p:spPr>
          <a:xfrm>
            <a:off x="533520" y="312408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2 - Faculty self-ser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5"/>
          </p:cNvPr>
          <p:cNvSpPr/>
          <p:nvPr/>
        </p:nvSpPr>
        <p:spPr>
          <a:xfrm>
            <a:off x="2666880" y="3048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"/>
          </p:cNvPr>
          <p:cNvSpPr/>
          <p:nvPr/>
        </p:nvSpPr>
        <p:spPr>
          <a:xfrm>
            <a:off x="533520" y="4572000"/>
            <a:ext cx="2514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 3 – Student 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7"/>
          </p:cNvPr>
          <p:cNvSpPr/>
          <p:nvPr/>
        </p:nvSpPr>
        <p:spPr>
          <a:xfrm>
            <a:off x="2666880" y="4495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Lisa Rapple, Curriculum Technical Specialist - Center for Distance Learning</a:t>
            </a:r>
            <a:br>
              <a:rPr sz="1200"/>
            </a:b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John Hughes, Assistant Director for Media Recording - Office of Instructional Technology</a:t>
            </a:r>
            <a:br>
              <a:rPr sz="1200"/>
            </a:br>
            <a:r>
              <a:rPr b="1" i="1" lang="en-US" sz="1200" spc="-1" strike="noStrike">
                <a:solidFill>
                  <a:srgbClr val="669999"/>
                </a:solidFill>
                <a:latin typeface="Arial"/>
              </a:rPr>
              <a:t>SUNY Empire State College, Saratoga Springs, 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5334120"/>
            <a:ext cx="274320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End User Requirements: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Browser compatibility: Internet Explorer only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Real Media Player 9, 10 or 11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Windows Media Player 9, 10 or 11</a:t>
            </a:r>
            <a:br>
              <a:rPr sz="1000"/>
            </a:b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No proprietary plug-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14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CCOR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ACULTY WORK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1676520"/>
            <a:ext cx="4800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Visiting Expert Lecture Capture with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1676520"/>
            <a:ext cx="4800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Lecture Capture with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1676520"/>
            <a:ext cx="4800600" cy="24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Field Video with Illustrations &amp;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cc"/>
                </a:solidFill>
                <a:latin typeface="Arial"/>
              </a:rPr>
              <a:t>Medical College of Georgia Michael H. Rivner, M.D. Demonstrates a medical procedure with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728720"/>
            <a:ext cx="480060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Lecture Capture with Sl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cc"/>
                </a:solidFill>
                <a:latin typeface="Arial"/>
              </a:rPr>
              <a:t>North Shore-LIJ Sahana Rajasekhara, M.D. Lecture with 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8"/>
          </p:cNvPr>
          <p:cNvSpPr/>
          <p:nvPr/>
        </p:nvSpPr>
        <p:spPr>
          <a:xfrm>
            <a:off x="7696080" y="204948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9"/>
          </p:cNvPr>
          <p:cNvSpPr/>
          <p:nvPr/>
        </p:nvSpPr>
        <p:spPr>
          <a:xfrm>
            <a:off x="8153280" y="250668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0"/>
          </p:cNvPr>
          <p:cNvSpPr/>
          <p:nvPr/>
        </p:nvSpPr>
        <p:spPr>
          <a:xfrm>
            <a:off x="6781680" y="2887560"/>
            <a:ext cx="381240" cy="312840"/>
          </a:xfrm>
          <a:custGeom>
            <a:avLst/>
            <a:gdLst>
              <a:gd name="textAreaLeft" fmla="*/ 20160 w 381240"/>
              <a:gd name="textAreaRight" fmla="*/ 361080 w 3812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6317" h="21600">
                <a:moveTo>
                  <a:pt x="0" y="0"/>
                </a:moveTo>
                <a:lnTo>
                  <a:pt x="26317" y="0"/>
                </a:lnTo>
                <a:lnTo>
                  <a:pt x="26317" y="21600"/>
                </a:lnTo>
                <a:lnTo>
                  <a:pt x="0" y="21600"/>
                </a:lnTo>
                <a:close/>
              </a:path>
              <a:path fill="lightenLess" w="26317" h="21600">
                <a:moveTo>
                  <a:pt x="0" y="0"/>
                </a:moveTo>
                <a:lnTo>
                  <a:pt x="26317" y="0"/>
                </a:lnTo>
                <a:lnTo>
                  <a:pt x="24917" y="1400"/>
                </a:lnTo>
                <a:lnTo>
                  <a:pt x="1400" y="1400"/>
                </a:lnTo>
                <a:close/>
              </a:path>
              <a:path fill="darken" w="26317" h="21600">
                <a:moveTo>
                  <a:pt x="26317" y="0"/>
                </a:moveTo>
                <a:lnTo>
                  <a:pt x="26317" y="21600"/>
                </a:lnTo>
                <a:lnTo>
                  <a:pt x="24917" y="20200"/>
                </a:lnTo>
                <a:lnTo>
                  <a:pt x="24917" y="1400"/>
                </a:lnTo>
                <a:close/>
              </a:path>
              <a:path fill="darkenLess" w="26317" h="21600">
                <a:moveTo>
                  <a:pt x="26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17" y="20200"/>
                </a:lnTo>
                <a:close/>
              </a:path>
              <a:path fill="lighten" w="26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17" h="21600">
                <a:moveTo>
                  <a:pt x="6152" y="3794"/>
                </a:moveTo>
                <a:lnTo>
                  <a:pt x="20165" y="10800"/>
                </a:lnTo>
                <a:lnTo>
                  <a:pt x="61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1"/>
          </p:cNvPr>
          <p:cNvSpPr/>
          <p:nvPr/>
        </p:nvSpPr>
        <p:spPr>
          <a:xfrm>
            <a:off x="7543800" y="3268800"/>
            <a:ext cx="380880" cy="312480"/>
          </a:xfrm>
          <a:custGeom>
            <a:avLst/>
            <a:gdLst>
              <a:gd name="textAreaLeft" fmla="*/ 20160 w 380880"/>
              <a:gd name="textAreaRight" fmla="*/ 360720 w 380880"/>
              <a:gd name="textAreaTop" fmla="*/ 20160 h 312480"/>
              <a:gd name="textAreaBottom" fmla="*/ 292320 h 312480"/>
            </a:gdLst>
            <a:ahLst/>
            <a:rect l="textAreaLeft" t="textAreaTop" r="textAreaRight" b="textAreaBottom"/>
            <a:pathLst>
              <a:path w="26323" h="21600">
                <a:moveTo>
                  <a:pt x="0" y="0"/>
                </a:moveTo>
                <a:lnTo>
                  <a:pt x="26323" y="0"/>
                </a:lnTo>
                <a:lnTo>
                  <a:pt x="26323" y="21600"/>
                </a:lnTo>
                <a:lnTo>
                  <a:pt x="0" y="21600"/>
                </a:lnTo>
                <a:close/>
              </a:path>
              <a:path fill="lightenLess" w="26323" h="21600">
                <a:moveTo>
                  <a:pt x="0" y="0"/>
                </a:moveTo>
                <a:lnTo>
                  <a:pt x="26323" y="0"/>
                </a:lnTo>
                <a:lnTo>
                  <a:pt x="24923" y="1400"/>
                </a:lnTo>
                <a:lnTo>
                  <a:pt x="1400" y="1400"/>
                </a:lnTo>
                <a:close/>
              </a:path>
              <a:path fill="darken" w="26323" h="21600">
                <a:moveTo>
                  <a:pt x="26323" y="0"/>
                </a:moveTo>
                <a:lnTo>
                  <a:pt x="26323" y="21600"/>
                </a:lnTo>
                <a:lnTo>
                  <a:pt x="24923" y="20200"/>
                </a:lnTo>
                <a:lnTo>
                  <a:pt x="24923" y="1400"/>
                </a:lnTo>
                <a:close/>
              </a:path>
              <a:path fill="darkenLess" w="26323" h="21600">
                <a:moveTo>
                  <a:pt x="26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3" y="20200"/>
                </a:lnTo>
                <a:close/>
              </a:path>
              <a:path fill="lighten" w="26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3" h="21600">
                <a:moveTo>
                  <a:pt x="6155" y="3794"/>
                </a:moveTo>
                <a:lnTo>
                  <a:pt x="20168" y="10800"/>
                </a:lnTo>
                <a:lnTo>
                  <a:pt x="6155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2"/>
          </p:cNvPr>
          <p:cNvSpPr/>
          <p:nvPr/>
        </p:nvSpPr>
        <p:spPr>
          <a:xfrm>
            <a:off x="6629400" y="418320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17880"/>
            <a:ext cx="243828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3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what the Faculty lecture-capture station is and it’s unique featu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John Hughes, Assistant Director of Media Production, O.I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641760"/>
            <a:ext cx="243828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2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how faculty prepare and use the lecture-capture station and more unique featur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Lisa Rapple, Curriculum Technology Specialist, Center for Distanc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105520"/>
            <a:ext cx="24382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66"/>
                </a:solidFill>
                <a:latin typeface="Arial"/>
              </a:rPr>
              <a:t>4 minute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 presentation of what the final production looks like to the stud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996666"/>
                </a:solidFill>
                <a:latin typeface="Arial"/>
              </a:rPr>
              <a:t>Lisa Rapple, Curriculum Technology Specialist, Center for Distanc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33:06Z</dcterms:created>
  <dc:creator> Lisa F. Rapple</dc:creator>
  <dc:description/>
  <dc:language>en-US</dc:language>
  <cp:lastModifiedBy>lrapple</cp:lastModifiedBy>
  <dcterms:modified xsi:type="dcterms:W3CDTF">2010-04-21T14:56:21Z</dcterms:modified>
  <cp:revision>18</cp:revision>
  <dc:subject/>
  <dc:title>Slide 1</dc:title>
</cp:coreProperties>
</file>